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6181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65D-C253-4D13-963F-197F908F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685-6966-477F-88AD-86EB8427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DB1-2C49-4214-AC27-3FA186F7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4E3-3FBC-4745-8FF0-B404B17C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1A0-8AE8-4FDB-93A0-D894BC2E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4FD-3973-4F22-9D05-84059523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6E6-6964-4436-8884-20BFF96F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4E7-1EDC-4450-A5EF-312B00BA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7680"/>
            <a:ext cx="6858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1AE-47F6-4E0D-A463-450F9620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607-01F9-4259-82D7-CD6B117C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AFF-9A3A-4D22-A1C9-E91330B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7E2-E677-4B38-9028-BFF86C3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28960"/>
            <a:ext cx="2413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66D0-D9DF-4B20-B702-5975869E0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9800" y="450720"/>
            <a:ext cx="6680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 9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1 Multiplying/Dividing Rational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restric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2 Add/Subtract Rational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3 Grap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55480" y="250920"/>
            <a:ext cx="534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4 Var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5 Classes of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6 Solving Equations and Ine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uti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6880" y="422280"/>
            <a:ext cx="39373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.51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-17, 20-2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For #s12 &amp; 13, list all asymptotes and holes.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5:19:32Z</dcterms:created>
  <dc:creator>udsd</dc:creator>
  <dc:description/>
  <dc:language>en-US</dc:language>
  <cp:lastModifiedBy>udsd</cp:lastModifiedBy>
  <dcterms:modified xsi:type="dcterms:W3CDTF">2009-06-05T15:19:32Z</dcterms:modified>
  <cp:revision>1</cp:revision>
  <dc:subject/>
  <dc:title>Slide 1</dc:title>
</cp:coreProperties>
</file>